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967-A274-4197-8282-DB478F4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379-5FA5-4A38-9DB8-BC3D77FF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BF2-FDB1-4443-BB51-1E18F28F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207-8A5D-4A9E-9E9E-B031CC5B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35EFB-D116-410C-8DD2-0F494CE3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9DBBD-5E00-4749-9449-9BA4B41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47A8-53F0-4FED-9367-6F673C65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FB497-4E08-4DB0-84B5-D66B46E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7D51C-272F-445A-A77E-B519CA24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C16E-209F-4C33-B875-D913DAB9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9F5BE-20BE-436C-8F95-3479CF8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437-EB9F-486A-80E0-D626AC18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D6825-839F-4D1D-98C0-7822D9B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518E-C21A-4B5E-BBB9-5D18F73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884B-E166-4F24-AFE9-79619D3F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0E06E-0F7D-4F95-B315-1F2CC20A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8CBE1-976E-4A99-A847-A122CA4B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400-219C-48C4-9867-A0A81AD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3C8-A59A-4D56-A9A3-56EA4D3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C3F-8E9C-4F57-B3AB-014ECA3B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345-17C2-4F2B-8E4B-E5417F82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C89-BEB3-4AA1-B2FA-83B016A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B01-71FE-473D-AAF2-ECA5AC3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65A-10FF-47BD-82AA-230F1E2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BCF-A6F3-4BB9-A1A0-34BAEA7C9F0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DB28-7A44-4379-BD93-B37F3D36F3A0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ustralian Ins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rve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sects that my family saw 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back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pap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mas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oups of ins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i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3141720"/>
            <a:ext cx="287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se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1706400" cy="201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1733760" cy="2000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4869000"/>
            <a:ext cx="237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pd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2236680" cy="1721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96000" y="2924280"/>
            <a:ext cx="287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lf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1733400" cy="2000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24000" y="83664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-Tailed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7281720" y="1557360"/>
            <a:ext cx="1733760" cy="2000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00600" y="164304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nel Web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6" descr=""/>
          <p:cNvPicPr/>
          <p:nvPr/>
        </p:nvPicPr>
        <p:blipFill>
          <a:blip r:embed="rId3"/>
          <a:stretch/>
        </p:blipFill>
        <p:spPr>
          <a:xfrm>
            <a:off x="2124000" y="4005360"/>
            <a:ext cx="1733760" cy="2000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24360" y="4149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Back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s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19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0920" y="1557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 ants was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2" descr=""/>
          <p:cNvPicPr/>
          <p:nvPr/>
        </p:nvPicPr>
        <p:blipFill>
          <a:blip r:embed="rId2"/>
          <a:stretch/>
        </p:blipFill>
        <p:spPr>
          <a:xfrm>
            <a:off x="7020000" y="220500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00720" y="229068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Flow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5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733400" cy="1333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348000" y="465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11280" y="6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4" descr=""/>
          <p:cNvPicPr/>
          <p:nvPr/>
        </p:nvPicPr>
        <p:blipFill>
          <a:blip r:embed="rId2"/>
          <a:stretch/>
        </p:blipFill>
        <p:spPr>
          <a:xfrm>
            <a:off x="7164360" y="1197000"/>
            <a:ext cx="1733400" cy="2000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43280" y="148428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Pap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7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400536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et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4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1733400" cy="2000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24000" y="1989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mas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7" descr=""/>
          <p:cNvPicPr/>
          <p:nvPr/>
        </p:nvPicPr>
        <p:blipFill>
          <a:blip r:embed="rId2"/>
          <a:stretch/>
        </p:blipFill>
        <p:spPr>
          <a:xfrm>
            <a:off x="6948360" y="981000"/>
            <a:ext cx="1733760" cy="2000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1844640"/>
            <a:ext cx="15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pet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0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1733400" cy="2000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4000" y="414972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al Creeper leaf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164360" y="4508640"/>
            <a:ext cx="1733400" cy="132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16360" y="472428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mosa Flea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l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1739880" cy="1320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68360" y="184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w F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93080" y="2060640"/>
            <a:ext cx="1739880" cy="132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32360" y="227664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ow Saw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403280" y="4221000"/>
            <a:ext cx="2303640" cy="149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80000" y="451008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016000" cy="156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11280" y="47628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erranean Fruit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521400" y="934920"/>
            <a:ext cx="2443320" cy="1630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3280" y="148428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chinid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2736720" cy="1824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59280" y="314172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scina Prolapsa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rcRect l="0" t="0" r="49067" b="0"/>
          <a:stretch/>
        </p:blipFill>
        <p:spPr>
          <a:xfrm>
            <a:off x="6084720" y="4627440"/>
            <a:ext cx="2513160" cy="193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5280" y="4869000"/>
            <a:ext cx="23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Brown Robber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9:17:31Z</dcterms:created>
  <dc:creator>georga</dc:creator>
  <dc:description/>
  <dc:language>en-US</dc:language>
  <cp:lastModifiedBy>carol.giampaoli</cp:lastModifiedBy>
  <dcterms:modified xsi:type="dcterms:W3CDTF">2009-04-30T00:43:16Z</dcterms:modified>
  <cp:revision>13</cp:revision>
  <dc:subject/>
  <dc:title>Australian Insects</dc:title>
</cp:coreProperties>
</file>